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3AB-BD41-44BB-B7B5-65B07F52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229-70A1-43AE-8EB0-2219924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456-11E1-423F-999F-6BE2DC8F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7DD-405D-4020-944C-53481EDE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FD6-8653-4742-A562-3535FCE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B9A-B7F7-4279-A213-0E7B5DC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97CD-BD43-4301-BB0F-B2CD1B1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5389-8313-4185-ADBD-5A3F368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59AB-CBAD-40F9-B8CA-7755673F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688-EAD1-4B54-B5A0-FEC285AA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1E35-EF16-4DFC-96D2-11C134D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73E-BC8D-41FB-A274-14B2C25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A07-4280-4FD0-87DF-4CFDFFE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4227-3A7E-4DB8-870A-AD5764B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A9D-B2D3-4727-9DF5-CCB5EA3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4B5-6D2C-447A-B6F4-DEF56EA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B21-FB4B-44D5-8C19-CA9C743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EDC-7441-4D8F-86A1-648C7E04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D28-6BCC-4927-965B-A5F6370E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6B23-C12F-4FAB-899A-95D5CBFF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624-0FD5-40E0-B000-058EB60E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1ECF-CDB8-475F-A13A-FAB5AEA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292A-6E78-4099-AB3E-3256BCF0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5AE3-7FC5-4A14-953B-85781951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7920-F993-4CFD-AF6B-839F182A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73E4-12D6-4618-AAF2-CE088CDD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8269-5F52-4662-8D95-AF9614F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660B-2D40-4B3F-940C-B59529C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26BB-2B83-40AF-94DF-6D05877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5F6A-1955-4065-BCE0-68BAE28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8309-C44D-42B5-BF5D-92DCEC48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7AC-0C9C-444C-8CCA-91175FF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513C-197D-48D5-A197-E6458E7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2937-2E32-4A37-8426-804CAE35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FEDD-2D8C-49DF-9B0C-0B3CED5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02B0-403E-404D-878F-0EA038F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DBE9-49B9-4BC5-9499-016AA960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C8AF-105D-4060-8503-C100791E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48E8-A34C-4B13-AE99-E21AB4A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2897-C149-4E4B-AA2D-268A4A3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51E7-802B-4EB6-A982-7D2F03E6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72E1-3A99-4D66-AFC2-2B97B63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B55-DB6C-4ECB-80B2-E3209BB8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C5D6-CB40-444F-A9C9-8C1EB7B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262F-1063-4462-AD11-C3CD15FC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31E0-6C72-4D10-A1ED-056C6070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BEB-649D-4DD8-AC64-AF9577F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DAF-DFCE-4A30-AF8D-D76A620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58077CA-3C71-4922-A7B3-BDCDBA18653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F030DC2-EC0E-46A0-A134-D7010254462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56B7968-66BB-4A18-B1BB-F03F9DE21AC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02AAC3E-92FB-4D99-BCCA-B1597ECEBDC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8000"/>
          </a:bodyPr>
          <a:p>
            <a:pPr marL="236160" indent="-236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różnice pomiędzy resuscytacją osoby dorosłej i dziec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rzypadku resuscytacji osoby dorosłej rozpoczyna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d 30 uciśnięć klatki piersiowej, po których wykonuje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 oddechy ratunkowe, natomiast w przypadku dziecka rozpoczynamy od 5 wdechów, po których przechodzimy do sekwencji 30 uciśnięć – 2 wdechy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